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666-29B9-41C3-B70D-A810D1DF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32F-CF18-47FF-8C11-CD282E8C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B18-BD7D-43F2-9CFF-26E8B9F3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B75-AA2D-47B3-AD9A-619AC14A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33ECE-40AA-4525-9E06-877A6C64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B6BED-282A-49DD-AAF6-39B3FEAE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93833-D7AF-40CB-8F16-0EF34601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6C004-258F-4038-8A43-7F2E197A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72238-3868-4F39-BABF-033E4204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B4369-8643-4C7E-BB87-F677BE4E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3E884-2EAA-4E0E-A6E9-58EC4836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990-E9A3-4C49-BB80-46524EB9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C8615-6CB3-4E19-AFE7-791CB03B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B4F5A-19FB-40A7-BB3B-8E494E97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72F1B-467B-42DB-804E-2B7AA16A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3224C-FCAF-46D3-803C-47DBF182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72764-2B39-468C-9129-F60ECDE6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165-8873-4085-B02E-916B96CC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4B8-5A39-47B6-AD7E-018395CE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FCE-7738-4DAA-A790-4AE0AE41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2DC-0045-4E6C-9006-8412FAF6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2A8-DB04-4811-8CBE-AAB4D4B3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02B-6276-442C-B2A8-2517C532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4DA-6135-495A-B17D-1C167BFD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D020-6F50-4387-AA05-6A9835AB3A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BB65-3A88-42AB-86AC-1FA8C0F878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kFaxNkbt2Y&amp;feature=related" TargetMode="External"/><Relationship Id="rId2" Type="http://schemas.openxmlformats.org/officeDocument/2006/relationships/hyperlink" Target="http://www.youtube.com/watch?v=0kFaxNkbt2Y&amp;feature=related" TargetMode="External"/><Relationship Id="rId3" Type="http://schemas.openxmlformats.org/officeDocument/2006/relationships/hyperlink" Target="http://www.youtube.com/watch?v=0kFaxNkbt2Y&amp;feature=related" TargetMode="External"/><Relationship Id="rId4" Type="http://schemas.openxmlformats.org/officeDocument/2006/relationships/hyperlink" Target="http://www.youtube.com/watch?v=D2dYNLwtRkc&amp;feature=related" TargetMode="External"/><Relationship Id="rId5" Type="http://schemas.openxmlformats.org/officeDocument/2006/relationships/hyperlink" Target="http://www.youtube.com/watch?v=D2dYNLwtRkc&amp;feature=related" TargetMode="External"/><Relationship Id="rId6" Type="http://schemas.openxmlformats.org/officeDocument/2006/relationships/hyperlink" Target="http://www.youtube.com/watch?v=D2dYNLwtRkc&amp;feature=related" TargetMode="External"/><Relationship Id="rId7" Type="http://schemas.openxmlformats.org/officeDocument/2006/relationships/hyperlink" Target="http://www.youtube.com/watch?v=9z4N7-yourw&amp;feature=related" TargetMode="External"/><Relationship Id="rId8" Type="http://schemas.openxmlformats.org/officeDocument/2006/relationships/hyperlink" Target="http://www.youtube.com/watch?v=9z4N7-yourw&amp;feature=related" TargetMode="External"/><Relationship Id="rId9" Type="http://schemas.openxmlformats.org/officeDocument/2006/relationships/hyperlink" Target="http://www.youtube.com/watch?v=9z4N7-yourw&amp;feature=related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anadian Seal Hu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athan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752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About the Canadian Seal Hunt."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umane Soceity of the United Sta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HSUS, n.d. Web. 16 Feb. 2010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[code]] &lt;http://www.hsus.org/marine_mammals/protect_seals/about_the_canadian_seal_hunt/&gt;. //The Canadian Seal Hunt//. Humane Soceity of the United States, 2007. Web. 23 Feb. 2010. &lt;http://www.canadiansealhunt.com/organizations.html&gt;. "Six Facts of the Canadian Seal Hunt." //Canada International//. Her Majesty the Queen in Right of Canada, n.d. Web. 21 Feb. 2010. &lt;http://www.canadainternational.gc.ca/austria-autriche/ assets/pdfs/Seal_hunt_17jan05-e.pdf&gt;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36576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Hu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sea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l hunting Is the personal or commercial hunt of se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tarted with Native Americans hunting for se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a kind of right to manh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it has evolved into a massive industry with 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uge commerc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43400" y="4479840"/>
            <a:ext cx="39625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 it happ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 is considered very valuable because of its warmth and its resistance to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sold to Europe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nadian Sealing industry rakes an annual income of about 16.5 million doll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al meat is sold to the Asian markets and the oil is taken as a fish oil supp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imal Rights Clai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Canada is not the only country that participates in the Sealing industry it is the most famous due to the constant animal rights prot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ight Protesters think the hakapik is inhumane and doesn’t always kill the anim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ld resulting in the hunter skinning the seal al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trovers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very part of the seal is Util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upset for Seal Hunting is that hunters will kill specifically for the fur and will throw away the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Warming may threaten lifestyle of the Se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ath statistics of the hunt do not include the seals that have been injured by hunters but got away. Only to die l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Hakapik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ally a cl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 method is to hit the seal directly on the foreh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cess will crush the skull and supposedly kill it insta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rotest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umane Society international is the chief protestor of the Canadian Seal h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ascot is a young white seal known as a white coat… Even though they are illegal to kill at such a young 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I calls for a boycott of all Canadian seafood… Unfortunately the Asian and American markets won’t particip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elebrity Att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Harp Seals are not an endangered species and their population is constantly monitored by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celebrities varying from Paul McCartney and Paris Hilton have done concerts to speak out against the seal h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rtunately Canadian Seal Hunters do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nk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=0kFaxNkbt2Y&amp;feature=related</a:t>
            </a:r>
            <a:br>
              <a:rPr sz="3200"/>
            </a:b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=D2dYNLwtRkc&amp;feature=related</a:t>
            </a:r>
            <a:br>
              <a:rPr sz="3200"/>
            </a:b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=9z4N7-yourw&amp;feature=rel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8:54:07Z</dcterms:created>
  <dc:creator>SASD</dc:creator>
  <dc:description/>
  <dc:language>en-US</dc:language>
  <cp:lastModifiedBy>SASD</cp:lastModifiedBy>
  <dcterms:modified xsi:type="dcterms:W3CDTF">2010-03-03T14:56:32Z</dcterms:modified>
  <cp:revision>8</cp:revision>
  <dc:subject/>
  <dc:title>Canadian Seal Hunt</dc:title>
</cp:coreProperties>
</file>